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7CA-87FF-4BC4-907E-8FC70A05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2B2-F770-4964-BA94-C2F24ECF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611-D7F5-4E04-903F-4E23E1F8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8AC-182A-43C2-BAC8-888FC5D8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BB7C-9944-4C70-A22F-802263FB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9DC3-1806-4E9A-8D04-61572441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0D0-4AD8-415F-8F11-4178AA2E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2BBE-936D-48B0-A6AF-E723D297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4B69-08C4-4156-B46B-0BAA70BE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0B53-377D-465E-AD0E-A9AE21F9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FD71-3CF5-4A56-9B4A-61EC353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DFA-C5B4-412F-8DA4-59C4F211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B83F-4D28-47D0-88E5-429947EC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568C-691C-4123-83AF-E483AE9A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53F3-C3A5-4E61-BB9C-C8F25821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089B-6B4B-4517-97AE-9E54D5C9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DB60-1B67-4B0D-9EA8-0D21A371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52C6C-087F-465A-9AF8-12A1A359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29AA5-3F8A-4886-9C7B-8BA6799C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5BC90-D23F-499D-A8CF-BD580CBE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6F009-A85B-45EE-A8A8-4E0E16B3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265A5-5EEA-42DD-BB82-9D17544F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68B-D052-40D9-8D91-31D54447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01469-B09D-4EE0-B6F7-892782CC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F38F7-7C5A-45FE-868C-9C83A4F3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08F0B-18DD-4D39-B7D1-0F4B580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DB02D-D466-4649-928B-80C1AB87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FDD17-3D77-4F7A-8172-0D815049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61F26-C77C-4069-9051-C75EA103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97952-286A-40F9-8149-A0BC6551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0896E-B4AA-4E54-9EDC-11607248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80DD6-52A0-4126-A69C-38C12DD8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F27C9-CC26-44C1-BA91-E21F9354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B11-3C70-494F-BF9C-EF15604A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42C35-4839-4ADD-8511-F768AE62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8CB80-8A16-4E59-B608-D0E486BF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90714-CE10-4CAE-9330-DC797468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6CA7E-6A90-4886-BC36-13552807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DF0F6-8D49-4B56-9F3D-107812B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B7278-742C-4679-9F76-9DA1271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EA137-9AA5-4322-B310-37FC6217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EC44A-C593-44F7-B3BF-75D901FB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7FC46-DA10-4C5F-A62A-1901E828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75E51-CBEB-44F8-84F1-FAC0D038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B4D-8433-4EDC-81A1-77E8E1BB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8259E-12AE-492A-BBA9-35ACD58E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2474D-C273-4BA9-ADF7-F80744B9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61E9D-C903-4C14-A1CE-13FBEE46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0BAF7-70A4-4825-BE2C-9391C4BD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35DD0-DC17-43A4-AC2D-B3961F0D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2F299-FC38-417F-96A7-3CFE622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AF95B-A57D-4946-AA70-3C5B567D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D6186-2360-4620-BA22-BE7C6E1E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58A0E-513E-4EEF-AD59-0B86201D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F1927-F191-4A96-BB5E-394DEF21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356-C12D-440F-A4C3-9143F376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2B3B4-6613-4DC7-8562-386B707B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51A3C-D471-408B-857C-1E9B0CFA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89ABA-2D27-44D2-97D9-14992E02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632C1-FBAD-44FA-94CF-E4054057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36B60-2304-48E3-B3FB-E27A2DE2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B29F5-9BAD-457E-9CBE-54BF1257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31594-971F-4D59-9BB7-894188E7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D1DAF-7233-416C-AFE1-8686433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E8148-4C1D-4B64-B99C-5044C19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9B05-C404-403C-B8EE-B2C2CD29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AE3-2C79-4323-B569-D4FE5FF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9FF30-B12D-4996-9516-E0F0A928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6B64D-7DE9-4231-BEC3-0FE1B2DE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2DC1-47E8-4511-AE1B-E586A297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809D9-0952-43E1-8025-05F6BB0C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B7B4A-D029-4CFA-ACD4-34A90A0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1F826-212C-4FC1-BAA8-1DF2B9F7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B87BF-9D55-4B6A-BEF7-E26BA903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AA36C-6C15-4E00-91A6-A6ADBC0F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D5830-CB35-40F6-9E32-00EEB30C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7ABA7-AD95-4B83-9DA0-ABF7FDD5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88E-939F-4514-9937-42E1035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1ABE3-5953-4C4C-B5A8-3FFC832B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22D97-6DB7-401E-AC21-22139497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B141D-E9D8-44C6-BEEE-3BA73CC3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D30D5-3E12-49A2-B69C-187415E8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16AD5-DE78-43BA-9E39-9E8FCF69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997DD-ACF7-43BC-A577-C5DF1140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B1B09-5B8C-4986-88CC-7025FFDD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A440B-DF0E-48B5-8A90-FB161DD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ECF0-418F-468D-9FE3-BE0AD353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24717-1553-449E-A379-E70F23AB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B3D-56B1-4CBE-ABE3-8D33021E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E03A9-FE12-454E-9CEA-EF8F0516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3CF4-17C3-4A16-802D-409C9A1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03279-B520-4595-9C98-EFEB4F99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5BB01-D668-44DC-BD39-F7DAAB93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7D177-A53C-4C76-9C88-F621AAFA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6943F-0C0E-499E-A338-76F6D16E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2D691-B1E2-4FAB-ADCF-9DC035B6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4BA29-C46A-4838-B6A5-7F3A6FCC564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DB9CA-D205-488C-AFDB-41200FA8DC5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3B5AE-5F43-41CA-96C9-31D83E4AC634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0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5AEF8-9D79-4848-8D95-DB63E7E2096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0DAB7-D6A2-44ED-8AD1-C44B651C437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037B5-8AD7-433D-B179-52196454B93B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12739-9472-46E3-9EBB-18286448B19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9B0A8-5602-4657-928C-BF956D117DC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54957-074B-44D1-8F12-AC5DE49E7EA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8F5DE-478A-4D4A-928E-8A74FE533FE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AEBDE-28E9-4E88-A499-50B900E42E6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39762-3B46-4B7F-9B60-BF416961EE2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B3E26-E7AE-4D78-A426-B37B898049F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38105-57C7-4CD6-8DE7-5CE70AFEEED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3A049-B4D7-46B0-85CD-3247932B2B0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0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9957A-D818-4D5D-A3DC-BC1FAEFA206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ropbox.com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DROPBOX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Pam Wetzel &amp; Christina Ivankin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The program allows you to “sync” or save documents of any size or type to a folder that you can access on any other computer by the internet at any tim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This program is assessable with iphone, ipad, droid, and blackberry as well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 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dropbox.com/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Featur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eatures cont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609480" y="1349280"/>
            <a:ext cx="7839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75f5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You control who has access to your shared fold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75f5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You can make online photo gall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75f5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 program uses a military grade encryption for security purpo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75f5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ropbox supports revision history, so files deleted can be recov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75f5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members the history of a file for up to 30 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75f5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an one person can edit a 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assroom usage / ideas 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609480" y="1481040"/>
            <a:ext cx="8153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s program would be an excellent resource for a middle / high school classroom that does assignments on the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The sudents could save their work in a Dropbox fi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Also when finished with an assignment, instead of printing, the students could drop their assignment in the teacher’s Dropbox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42960" y="2742840"/>
            <a:ext cx="78516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Dropbox can be downloading right from the website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There are three cost options: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Basic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free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2GB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Pro50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$9.99 month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50GB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Pro100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$19.99 month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100GB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nly one version to be used for educational or non-educational purpose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Registr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ossible problems / drawback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609480" y="1913040"/>
            <a:ext cx="815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gram is blocked at Shamokin and Mahanoy High school.  Therefore, there is a good possibility that other schools have it blocked.  Even if the teachers have access to unlock the website with a code, the students would not have access to the site and therefore the program would not be useful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20:43:23Z</dcterms:created>
  <dc:creator>PA Department of Education Classrooms for the Future</dc:creator>
  <dc:description/>
  <dc:language>en-US</dc:language>
  <cp:lastModifiedBy>PA Department of Education Classrooms for the Future</cp:lastModifiedBy>
  <dcterms:modified xsi:type="dcterms:W3CDTF">2011-02-15T15:32:58Z</dcterms:modified>
  <cp:revision>8</cp:revision>
  <dc:subject/>
  <dc:title>Drop Box</dc:title>
</cp:coreProperties>
</file>